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8966-8DA2-4E3C-B5A1-67E0CC5F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55BA-4A9B-4F17-A8C5-CBE11738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8F77-98DC-4151-9FBB-535BD3A3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948-89AA-4936-996E-D72D28CD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1887-0389-4E00-9325-DBE97964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FBC-3BD6-4CEB-8DA5-3B616069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CB2-F6D2-4077-B4B7-DC8A47A5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AF1-888E-44C8-AF09-DECA4A5E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77A-48A8-4865-87EB-898961D6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1BDC-CBE8-42FF-8F84-C87EA567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A72-A85B-4DF1-8EF1-EBC445D9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FAC-2755-4F87-B5FE-96490583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8433-5771-4280-9FC6-B33A20A0F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Braking Down Proportions and Percen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6-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Travis, Denise, and Mor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 Question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ff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solve a percent problem by writing and solving a propor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 model can help you write a propor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80880" y="-4961880"/>
            <a:ext cx="759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28440" y="4191120"/>
            <a:ext cx="3962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Arial"/>
              </a:rPr>
              <a:t>65 </a:t>
            </a: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= 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Arial"/>
              </a:rPr>
              <a:t>n</a:t>
            </a: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    : Write a proportion 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100 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65(245) = 100n : Write cros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65(245)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=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100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: Divide each side by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100           100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</a:rPr>
              <a:t>159.25 =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65% of 245 is 159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90920" y="1828800"/>
            <a:ext cx="380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33920" y="1828800"/>
            <a:ext cx="152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14600" y="3048120"/>
            <a:ext cx="5335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65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9880" y="3048120"/>
            <a:ext cx="152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2971800"/>
            <a:ext cx="609480" cy="409680"/>
          </a:xfrm>
          <a:prstGeom prst="leftArrow">
            <a:avLst>
              <a:gd name="adj1" fmla="val 50000"/>
              <a:gd name="adj2" fmla="val 37192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876920" y="2971800"/>
            <a:ext cx="6094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p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362320" y="3657600"/>
            <a:ext cx="685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733920" y="3657600"/>
            <a:ext cx="457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2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81480" y="3657600"/>
            <a:ext cx="7527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wh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3657600"/>
            <a:ext cx="747720" cy="333360"/>
          </a:xfrm>
          <a:prstGeom prst="leftArrow">
            <a:avLst>
              <a:gd name="adj1" fmla="val 50000"/>
              <a:gd name="adj2" fmla="val 5607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20968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609480" y="-141480"/>
            <a:ext cx="7596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57400" y="228600"/>
            <a:ext cx="5181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dea2e"/>
                    </a:gs>
                    <a:gs pos="50000">
                      <a:srgbClr val="66ff33"/>
                    </a:gs>
                    <a:gs pos="100000">
                      <a:srgbClr val="5dea2e"/>
                    </a:gs>
                  </a:gsLst>
                  <a:lin ang="13500000"/>
                </a:gradFill>
                <a:latin typeface="Impact"/>
              </a:rPr>
              <a:t>Finding a perc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dea2e"/>
                  </a:gs>
                  <a:gs pos="50000">
                    <a:srgbClr val="66ff33"/>
                  </a:gs>
                  <a:gs pos="100000">
                    <a:srgbClr val="5dea2e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709" t="0" r="25170" b="41359"/>
          <a:stretch/>
        </p:blipFill>
        <p:spPr>
          <a:xfrm>
            <a:off x="2666880" y="1447920"/>
            <a:ext cx="5867640" cy="4378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48320" y="2895480"/>
            <a:ext cx="380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715000" y="2971800"/>
            <a:ext cx="152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0" y="4876920"/>
            <a:ext cx="380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n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943600" y="4952880"/>
            <a:ext cx="304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5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4952880"/>
            <a:ext cx="671760" cy="333360"/>
          </a:xfrm>
          <a:prstGeom prst="leftArrow">
            <a:avLst>
              <a:gd name="adj1" fmla="val 50000"/>
              <a:gd name="adj2" fmla="val 50378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62920" y="4952880"/>
            <a:ext cx="7617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 Black"/>
              </a:rPr>
              <a:t>p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67080" y="5410080"/>
            <a:ext cx="685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943600" y="5410080"/>
            <a:ext cx="304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6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5334120"/>
            <a:ext cx="685800" cy="409320"/>
          </a:xfrm>
          <a:prstGeom prst="leftArrow">
            <a:avLst>
              <a:gd name="adj1" fmla="val 50000"/>
              <a:gd name="adj2" fmla="val 4188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162920" y="5410080"/>
            <a:ext cx="9144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wh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743200"/>
            <a:ext cx="419112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N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52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: Write a propor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00 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60n = 100(52) : Write cross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cc"/>
                </a:solidFill>
                <a:uFillTx/>
                <a:latin typeface="Arial"/>
              </a:rPr>
              <a:t>60n </a:t>
            </a:r>
            <a:r>
              <a:rPr b="0" lang="en-US" sz="1800" spc="-1" strike="noStrike">
                <a:solidFill>
                  <a:srgbClr val="0099cc"/>
                </a:solidFill>
                <a:latin typeface="Arial"/>
              </a:rPr>
              <a:t>= </a:t>
            </a:r>
            <a:r>
              <a:rPr b="0" lang="en-US" sz="1800" spc="-1" strike="noStrike" u="sng">
                <a:solidFill>
                  <a:srgbClr val="0099cc"/>
                </a:solidFill>
                <a:uFillTx/>
                <a:latin typeface="Arial"/>
              </a:rPr>
              <a:t>100(52) </a:t>
            </a:r>
            <a:r>
              <a:rPr b="0" lang="en-US" sz="1800" spc="-1" strike="noStrike">
                <a:solidFill>
                  <a:srgbClr val="0099cc"/>
                </a:solidFill>
                <a:latin typeface="Arial"/>
              </a:rPr>
              <a:t>:Divide each side by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"/>
              </a:rPr>
              <a:t>60       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N = 86.6 repeating : 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=86.7: 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52 is approximately 86.7% of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660066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you know the percent that a part represents, and you want to find the whole am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You can also write as a propor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80880" y="-4565160"/>
            <a:ext cx="759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52480" y="304920"/>
            <a:ext cx="58676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Finding a Whole Amou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28866" t="0" r="37461" b="44444"/>
          <a:stretch/>
        </p:blipFill>
        <p:spPr>
          <a:xfrm>
            <a:off x="4419720" y="1219320"/>
            <a:ext cx="3878280" cy="4572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181480" y="2819520"/>
            <a:ext cx="3812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324480" y="2819520"/>
            <a:ext cx="152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29200" y="3886200"/>
            <a:ext cx="5335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46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324480" y="3886200"/>
            <a:ext cx="457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20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/>
          <p:nvPr/>
        </p:nvSpPr>
        <p:spPr>
          <a:xfrm>
            <a:off x="6934320" y="3886200"/>
            <a:ext cx="595080" cy="333360"/>
          </a:xfrm>
          <a:prstGeom prst="leftArrow">
            <a:avLst>
              <a:gd name="adj1" fmla="val 50000"/>
              <a:gd name="adj2" fmla="val 44627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96080" y="3886200"/>
            <a:ext cx="685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p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76920" y="5029200"/>
            <a:ext cx="685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324480" y="5105520"/>
            <a:ext cx="152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5105520"/>
            <a:ext cx="609480" cy="333360"/>
          </a:xfrm>
          <a:prstGeom prst="leftArrow">
            <a:avLst>
              <a:gd name="adj1" fmla="val 50000"/>
              <a:gd name="adj2" fmla="val 45707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391520" y="5029200"/>
            <a:ext cx="8380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wh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-3025800" y="89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09376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941480"/>
            <a:ext cx="44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46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207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: Write a propor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100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46n = 100(207) : Write cross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"/>
              </a:rPr>
              <a:t>46n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=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"/>
              </a:rPr>
              <a:t>100(207)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: Divide each side by 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46         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"/>
              </a:rPr>
              <a:t>N = 450 : 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207 is 46% of 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4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concepts on percents and Propor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 the per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ercent of 40 is 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160020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 the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number is 15% of 4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= 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4038480"/>
            <a:ext cx="396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 the wh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is 15% of what nu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  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cc0066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80880" y="-4404240"/>
            <a:ext cx="759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50, the population of Alaska was about 128,535.  That was about 20.5% of the population of Alaska in the year 2000.  About how may people lived in Alaska in the year 20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.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8,5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 Write a 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         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20.5n = 100(128,535): Write cross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Arial"/>
              </a:rPr>
              <a:t>20.5n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=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Arial"/>
              </a:rPr>
              <a:t>100(128,535)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: Divide each side by 2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20.5             2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e answer you should get is: 627,000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33720" y="228600"/>
            <a:ext cx="5105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Story Probl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4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66"/>
            </a:gs>
            <a:gs pos="50000">
              <a:srgbClr val="3333cc"/>
            </a:gs>
            <a:gs pos="100000">
              <a:srgbClr val="cc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est your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part of a who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% of 70 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 3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 Perc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25 is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the Whole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8 is 25%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2286000"/>
            <a:ext cx="2286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30492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6019920"/>
            <a:ext cx="30492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6:43:30Z</dcterms:created>
  <dc:creator>Denise</dc:creator>
  <dc:description/>
  <dc:language>en-US</dc:language>
  <cp:lastModifiedBy>Student</cp:lastModifiedBy>
  <dcterms:modified xsi:type="dcterms:W3CDTF">2010-03-08T19:28:39Z</dcterms:modified>
  <cp:revision>11</cp:revision>
  <dc:subject/>
  <dc:title>Proportions and Percents (6-6)</dc:title>
</cp:coreProperties>
</file>